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6E6D-92AC-4200-BD71-9C6BCE28E6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ransport will probably be commercial suborbital space f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moment it is still in the future and at first it will inevitably be very expensive but it will eventually become cheap enough for ordinary people to afford.</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D0B2-F7AD-4C27-A87E-F475C684B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lden age' of car ownership soon got 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ad rule enforcement technology, like red-light cameras, was introduced to deter motorists from disobeying road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l prices doubled in response to the world oil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design rules were enforced in the construction of new cars to increase fuel efficiency and limit pollution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E6F3-94B5-4ED7-BA62-C7C648AAC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other modes of transport, concerns were raised during the 1990s about the environmental impact of modern air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xperts believed, and still do, that the future of air travel is under threat unless aircraft design was modified to become more fuel-efficient and less polluting.</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EC80-E1BC-4021-B671-1F90FC3F4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storical and economic reasons, there are differences internationally regarding use and extent of public trans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bus, the first organized public transit system within a city, appears to have originated in Paris, France, in 16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nibuses are next known to have appeared in Nantes, France, in 1826</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4F7F-2884-44EB-836A-E21D84D64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wer cars,  </a:t>
            </a:r>
            <a:r>
              <a:rPr b="0" lang="en-US" sz="1200" spc="-1" strike="noStrike">
                <a:solidFill>
                  <a:srgbClr val="000000"/>
                </a:solidFill>
                <a:latin typeface="Calibri"/>
                <a:ea typeface="Calibri"/>
              </a:rPr>
              <a:t>Solar power and fuels which were comparatively less damaging such as methanol, hydrogen and bio-diesel were researched wid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1990</a:t>
            </a:r>
            <a:r>
              <a:rPr b="0" lang="ja-JP" sz="1200" spc="-1" strike="noStrike">
                <a:solidFill>
                  <a:srgbClr val="000000"/>
                </a:solidFill>
                <a:latin typeface="Calibri"/>
                <a:ea typeface="Calibri"/>
              </a:rPr>
              <a:t>’</a:t>
            </a:r>
            <a:r>
              <a:rPr b="0" lang="en-US" sz="1200" spc="-1" strike="noStrike">
                <a:solidFill>
                  <a:srgbClr val="000000"/>
                </a:solidFill>
                <a:latin typeface="Calibri"/>
                <a:ea typeface="Calibri"/>
              </a:rPr>
              <a:t>s the most prominent increase was achieved in commercial air travel, with passenger energy efficiency improvements of about 32% from 1990 to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61DD-F81D-475D-872B-5A67839AB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novative car-sharing program was initiated in 2000 in Seattle called Flexcar that is designed to cut down on the number of single-occupancy-vehicle trips in the re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one-month a pilot project was initiated to sell Metro Transit bus passes exceeded the expectations of its develop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275 people bought Metro bus passes, ticketbooks and Puget Passes, with total sales of more than $18,000 in one mon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10C9-B3D6-49C4-A540-6EB2DAB4C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is normally defined as the 25 years preceding the curren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re are some technical and design aspects that differentiate modern cars from ant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has been one of increasing standardization, platform sharing, and computer-aided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has also seen rapidly rising fuel efficiency and engine out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omobile emissions concerns have been eased with computerized engine management systems.</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107D-1957-4B7D-A23F-C17A72CD1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C0941-B6F4-4DE4-BFDE-D3BD599FF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0CD02-D99A-4A92-B2C5-659D412B1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ED4D7-7041-4546-B02F-00D5EE928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B0D8-21FA-40B5-AA7C-A3057DFA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76FFE-222D-4262-A2C1-954B2D73D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5AE97-A689-4DF5-ACA8-EC00F7F1D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64C1A-DB3B-4E00-A1A6-5D8015439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AF297-7360-4BE5-8BAE-38072175F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E2353-D781-4643-8993-2C56579AD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0F8A3-09B2-4026-ABEC-503B527C0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4716A-C944-4643-848A-F5FF0207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FB954-797E-4D07-800A-E6FBA2E1A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12244-5596-4531-8021-BF5AE7C8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BF3C0-5A91-4549-BE61-11D51D5DE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0A7B4-42A7-404D-90A1-3E5BD60B9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9E90B-B794-4826-9D54-9BFF6D31B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49065-2945-41A7-83C4-13D6D9886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A1C9B-A01C-4E00-BA18-9E386D4A0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D5E92-87C1-4E9D-B91D-C0EF8CD90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41659-22A2-4F42-9EFB-C4246E839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87B98-14D4-4C33-8E7B-23D035604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99281-A906-49E0-9439-8A003528D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55204-1374-4FD3-8A7F-CF20E1EA3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93531-FF77-469B-84F9-03E255669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5C815-583C-4DEA-A04C-5B606C1FE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2482A-F6F9-48B7-AFAB-7F3DE9CC1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95464-18BE-4274-B1FF-42D7892E7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E60EF-2028-49B4-A7CB-5C978CA9A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122D4-7CC0-4EA2-AD0B-387312AA1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F4F858-43CD-4CE9-908E-E632708B1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61D96-229A-41BB-9BF4-ABC4A6078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83F8D-FDC6-4978-B459-3D8A2D31A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4C3B8-D976-4560-B26F-259472324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66F0-89B4-4AA9-812E-F6117819E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93ACC-C80D-4154-A1C8-014FFB234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BF7A7-CDEE-4CFA-A3B5-74B1DF4C2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9529E-044B-417F-9BE0-05DE369B1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1666C-5D25-4267-B586-1A7EF206F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D46BC-887E-464E-B9F8-EEC8943F9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2D277-EAE1-44A3-B690-6B077B390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2EB85-2630-4D9F-A1EB-03CA883BA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076F09-0DBF-4FE6-BBEA-B29AC81EEB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625456-7C3C-4041-9A61-5FAC8D352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B2252C-CC2A-411C-8793-2BBBC3C80A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CF070-94DF-48BB-B15D-04A0651E8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94CB7-1719-4873-B78C-050AEED07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DD078-E1BF-4F68-9A70-6D5F88DAE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970CD-8565-46AD-86AB-776898BA9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D9B8F-4480-4CF5-A2AA-C85416A9F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A0448-A1C4-4802-B875-B91C9320D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79C56-3DCF-467E-BF53-FDAA4052C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41371-4192-4A7A-B1D0-802E036CD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B303A-29B6-498C-B119-9B4D991ED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B65D6-E711-4B48-BD12-47B089918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037C68-8201-42AA-AB12-F2F9DAAFE7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B552-ED18-403A-BFAE-6E002966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08AC82-A1F6-4F3D-8575-F4BD451B81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3731-83A8-4EF5-BD2A-F73AFFB1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75A7-3E3C-4AC1-A23F-F35F5AF01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8226-BC9C-45BA-A83E-D85AA7645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5A4E-4110-46D6-B501-22BEB5505D81}"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E597-2FFD-4307-AA3D-156E70B278F1}"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FA55-430D-4F89-A341-DFA0C5B818C2}"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4ED6-CC4A-4B2D-8339-8FD276436309}" type="slidenum">
              <a:rPr b="0" lang="en-US" sz="1600" spc="-1" strike="noStrike">
                <a:solidFill>
                  <a:srgbClr val="434342"/>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3C14-B334-4A4E-A9F2-C3AD176C817B}"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RANSPORTATION</a:t>
            </a:r>
            <a:endParaRPr b="0" lang="en-US" sz="3200" spc="-1" strike="noStrike">
              <a:solidFill>
                <a:srgbClr val="000000"/>
              </a:solidFill>
              <a:latin typeface="Franklin Gothic Medium"/>
            </a:endParaRPr>
          </a:p>
        </p:txBody>
      </p:sp>
      <p:sp>
        <p:nvSpPr>
          <p:cNvPr id="223"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By: Chad wadsworth</a:t>
            </a:r>
            <a:endParaRPr b="1" lang="en-US" sz="1400" spc="-1" strike="noStrike">
              <a:solidFill>
                <a:srgbClr val="000000"/>
              </a:solidFill>
              <a:latin typeface="Franklin Gothic Book"/>
            </a:endParaRPr>
          </a:p>
        </p:txBody>
      </p:sp>
      <p:pic>
        <p:nvPicPr>
          <p:cNvPr id="224" name="Picture 2" descr="Image result for history of transportation"/>
          <p:cNvPicPr/>
          <p:nvPr/>
        </p:nvPicPr>
        <p:blipFill>
          <a:blip r:embed="rId1"/>
          <a:stretch/>
        </p:blipFill>
        <p:spPr>
          <a:xfrm>
            <a:off x="457200" y="304920"/>
            <a:ext cx="2743200" cy="232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10 till present</a:t>
            </a:r>
            <a:endParaRPr b="0" lang="en-US" sz="2800" spc="-1" strike="noStrike">
              <a:solidFill>
                <a:srgbClr val="000000"/>
              </a:solidFill>
              <a:latin typeface="Franklin Gothic Medium"/>
            </a:endParaRPr>
          </a:p>
        </p:txBody>
      </p:sp>
      <p:sp>
        <p:nvSpPr>
          <p:cNvPr id="260" name=""/>
          <p:cNvSpPr txBox="1"/>
          <p:nvPr/>
        </p:nvSpPr>
        <p:spPr>
          <a:xfrm>
            <a:off x="822240" y="1100160"/>
            <a:ext cx="3292560" cy="357984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ransportation has significantly evolved over these decades.</a:t>
            </a:r>
            <a:endParaRPr b="1" lang="en-US" sz="18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t has resulted in noteworthy advantages including political, social and economical.</a:t>
            </a:r>
            <a:endParaRPr b="1" lang="en-US" sz="18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volution of transportation is still on the go electric cars, Nano cars and what not, resulting in increased efficiency for people as well as the environment.</a:t>
            </a:r>
            <a:endParaRPr b="1" lang="en-US" sz="1800" spc="-1" strike="noStrike">
              <a:solidFill>
                <a:srgbClr val="000000"/>
              </a:solidFill>
              <a:latin typeface="Franklin Gothic Book"/>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61" name="Content Placeholder 3" descr="Bugatti Veyron Super Sport"/>
          <p:cNvPicPr/>
          <p:nvPr/>
        </p:nvPicPr>
        <p:blipFill>
          <a:blip r:embed="rId1"/>
          <a:stretch/>
        </p:blipFill>
        <p:spPr>
          <a:xfrm>
            <a:off x="4495680" y="380880"/>
            <a:ext cx="1752840" cy="1371600"/>
          </a:xfrm>
          <a:prstGeom prst="rect">
            <a:avLst/>
          </a:prstGeom>
          <a:ln w="0">
            <a:noFill/>
          </a:ln>
        </p:spPr>
      </p:pic>
      <p:pic>
        <p:nvPicPr>
          <p:cNvPr id="262" name="Picture 2" descr=""/>
          <p:cNvPicPr/>
          <p:nvPr/>
        </p:nvPicPr>
        <p:blipFill>
          <a:blip r:embed="rId2"/>
          <a:stretch/>
        </p:blipFill>
        <p:spPr>
          <a:xfrm>
            <a:off x="4341960" y="3733920"/>
            <a:ext cx="2060280" cy="1523880"/>
          </a:xfrm>
          <a:prstGeom prst="rect">
            <a:avLst/>
          </a:prstGeom>
          <a:ln w="0">
            <a:noFill/>
          </a:ln>
        </p:spPr>
      </p:pic>
      <p:pic>
        <p:nvPicPr>
          <p:cNvPr id="263" name="Picture 2" descr="https://upload.wikimedia.org/wikipedia/commons/thumb/e/eb/2011_Toyota_Corolla_--_NHTSA.jpg/220px-2011_Toyota_Corolla_--_NHTSA.jpg"/>
          <p:cNvPicPr/>
          <p:nvPr/>
        </p:nvPicPr>
        <p:blipFill>
          <a:blip r:embed="rId3"/>
          <a:stretch/>
        </p:blipFill>
        <p:spPr>
          <a:xfrm>
            <a:off x="6019920" y="1981080"/>
            <a:ext cx="2585880" cy="154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ow transportation influenced economy</a:t>
            </a:r>
            <a:endParaRPr b="0" lang="en-US" sz="2800" spc="-1" strike="noStrike">
              <a:solidFill>
                <a:srgbClr val="000000"/>
              </a:solidFill>
              <a:latin typeface="Franklin Gothic Medium"/>
            </a:endParaRPr>
          </a:p>
        </p:txBody>
      </p:sp>
      <p:sp>
        <p:nvSpPr>
          <p:cNvPr id="26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Owing to it wide use if infrastructures, the transport sector is a crucial part of the economy and a common tool used for development.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hen transport systems are efficient, they afford economic and social opportunities and advantages that lead to positive multiplier effects like better access to markets, employment, and greater investment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economic impact of the transportation industry can be gauged from both, a macroeconomic as well as a microeconomic perspective:</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t the macroeconomic level (implying the importance of transportation for an entire economy), transportation and the mobility it affords are connected to a level of output, employment, and income with a national economy.</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Influence at microeconomic level</a:t>
            </a:r>
            <a:endParaRPr b="0" lang="en-US" sz="2800" spc="-1" strike="noStrike">
              <a:solidFill>
                <a:srgbClr val="000000"/>
              </a:solidFill>
              <a:latin typeface="Franklin Gothic Medium"/>
            </a:endParaRPr>
          </a:p>
        </p:txBody>
      </p:sp>
      <p:sp>
        <p:nvSpPr>
          <p:cNvPr id="267"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t the microeconomic level (implying the importance of transportation for explicit parts of the economy), transportation is linked to producer, consumer, and production cost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makes up for, on average, between 10% and 15% of household expenditures, while it accounts approximately 4% of the costs of each unit of production in manufacturing, though this figure varies according to sub sector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via the automobile has rendered regular, medium distance travel easier and affordab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ince cars do not require rest and do not entail a very large cost of ownership, more people are habitually able to travel farther in previous times. The construction of highways over the course of time, has continued to revolutionize mobility.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ow transportation influenced SOCIALLY</a:t>
            </a:r>
            <a:endParaRPr b="0" lang="en-US" sz="2800" spc="-1" strike="noStrike">
              <a:solidFill>
                <a:srgbClr val="000000"/>
              </a:solidFill>
              <a:latin typeface="Franklin Gothic Medium"/>
            </a:endParaRPr>
          </a:p>
        </p:txBody>
      </p:sp>
      <p:sp>
        <p:nvSpPr>
          <p:cNvPr id="269"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via the automobile has rendered regular, medium distance travel easier and affordab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ince cars do not require rest and do not entail a very large cost of ownership, more people are habitually able to travel farther in previous tim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onstruction of highways over the course of time, has continued to revolutionize mobility.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etter transportation has accelerated the outward development of cities and suburbs beyond the previously prevalent streetcar suburb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Until the arrival of the car, factory workers either resided close to their places of work or in high density communities further away, connected to the factory by streetcar or rail.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How transportation influenced CULTURES</a:t>
            </a:r>
            <a:endParaRPr b="0" lang="en-US" sz="2400" spc="-1" strike="noStrike">
              <a:solidFill>
                <a:srgbClr val="000000"/>
              </a:solidFill>
              <a:latin typeface="Franklin Gothic Medium"/>
            </a:endParaRPr>
          </a:p>
        </p:txBody>
      </p:sp>
      <p:sp>
        <p:nvSpPr>
          <p:cNvPr id="27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ar and the federal subsidies for roads and suburban development that supported the car culture, enabled people to reside in low density residential areas even farther from the city center and connected city neighborhood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ar has had a significant impact on culture, and as other vehicles, they have been incorporated into artworks like music, books, and movi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etween 1905 and 1908, more than a 120 songs were composed based on the subject of the automobi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nd although authors such as Booth Tarkington denounced the automobile age in books like The Magnificent Ambersons, novels proclaiming the political effects of motorization included Free Air by Sinclair Lewis.</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HOW TRANSPORTATION INFLUENCED POLITICALLY</a:t>
            </a:r>
            <a:endParaRPr b="0" lang="en-US" sz="24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ome early 20th century experts were dubious about the safely and appropriateness of allowing drivers.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rothy Levitt was among those who put these concerns to rest, so much so that a century later, only one country witnessed a </a:t>
            </a:r>
            <a:r>
              <a:rPr b="0" lang="ja-JP" sz="1500" spc="-1" strike="noStrike">
                <a:solidFill>
                  <a:srgbClr val="000000"/>
                </a:solidFill>
                <a:latin typeface="Franklin Gothic Book"/>
              </a:rPr>
              <a:t>‘</a:t>
            </a:r>
            <a:r>
              <a:rPr b="0" lang="en-US" sz="1500" spc="-1" strike="noStrike">
                <a:solidFill>
                  <a:srgbClr val="000000"/>
                </a:solidFill>
                <a:latin typeface="Franklin Gothic Book"/>
              </a:rPr>
              <a:t>let women to drive</a:t>
            </a:r>
            <a:r>
              <a:rPr b="0" lang="ja-JP" sz="1500" spc="-1" strike="noStrike">
                <a:solidFill>
                  <a:srgbClr val="000000"/>
                </a:solidFill>
                <a:latin typeface="Franklin Gothic Book"/>
              </a:rPr>
              <a:t>’</a:t>
            </a:r>
            <a:r>
              <a:rPr b="0" lang="en-US" sz="1500" spc="-1" strike="noStrike">
                <a:solidFill>
                  <a:srgbClr val="000000"/>
                </a:solidFill>
                <a:latin typeface="Franklin Gothic Book"/>
              </a:rPr>
              <a:t> movement.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Whereas 19th century mass media had celebrated heroes like Casey Jones, Allan Pinkerton and other tenacious protectors of public transport, new road movies featured heroes who discovered freedom and equality, rather than duty and hierarchy on the open road.</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Transport services are at heart of a nation</a:t>
            </a:r>
            <a:r>
              <a:rPr b="0" lang="ja-JP" sz="1500" spc="-1" strike="noStrike">
                <a:solidFill>
                  <a:srgbClr val="000000"/>
                </a:solidFill>
                <a:latin typeface="Franklin Gothic Book"/>
              </a:rPr>
              <a:t>’</a:t>
            </a:r>
            <a:r>
              <a:rPr b="0" lang="en-US" sz="1500" spc="-1" strike="noStrike">
                <a:solidFill>
                  <a:srgbClr val="000000"/>
                </a:solidFill>
                <a:latin typeface="Franklin Gothic Book"/>
              </a:rPr>
              <a:t>s economy – moving people to work, home, school, and goods to households and businesses.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In the 1980s, the UK government started to privatize bus services. It felt that letting private organizations to compete to bus services would keep prices low and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ensure that they would strive hard to give customers what they wanted. The result has been more efficient, contemporary, and viable bus services.</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OLITICAL EFFECT CONTINUED…</a:t>
            </a:r>
            <a:endParaRPr b="0" lang="en-US" sz="2800" spc="-1" strike="noStrike">
              <a:solidFill>
                <a:srgbClr val="000000"/>
              </a:solidFill>
              <a:latin typeface="Franklin Gothic Medium"/>
            </a:endParaRPr>
          </a:p>
        </p:txBody>
      </p:sp>
      <p:sp>
        <p:nvSpPr>
          <p:cNvPr id="27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 major government policy impacting all transport services is linked to the reduction of carbon dioxide emission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UK government is a signatory to an international treaty, the Kyoto Protocol. Countries which have signed this agreement are inclined to reduce the emission of toxic gas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y can be successful only through partnering with business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 good example is the government endeavor to encourage more children to use bus services instead of travelling to school by car.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will result in a reduction of carbon emission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eferences</a:t>
            </a:r>
            <a:endParaRPr b="0" lang="en-US" sz="2800" spc="-1" strike="noStrike">
              <a:solidFill>
                <a:srgbClr val="000000"/>
              </a:solidFill>
              <a:latin typeface="Franklin Gothic Medium"/>
            </a:endParaRPr>
          </a:p>
        </p:txBody>
      </p:sp>
      <p:sp>
        <p:nvSpPr>
          <p:cNvPr id="277" name=""/>
          <p:cNvSpPr txBox="1"/>
          <p:nvPr/>
        </p:nvSpPr>
        <p:spPr>
          <a:xfrm>
            <a:off x="822240" y="914040"/>
            <a:ext cx="7521840" cy="39625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amhistory.si.edu. (2013). </a:t>
            </a:r>
            <a:r>
              <a:rPr b="0" i="1" lang="en-US" sz="1500" spc="-1" strike="noStrike">
                <a:solidFill>
                  <a:srgbClr val="000000"/>
                </a:solidFill>
                <a:latin typeface="Franklin Gothic Book"/>
              </a:rPr>
              <a:t>Transportation Technology</a:t>
            </a:r>
            <a:r>
              <a:rPr b="0" lang="en-US" sz="1500" spc="-1" strike="noStrike">
                <a:solidFill>
                  <a:srgbClr val="000000"/>
                </a:solidFill>
                <a:latin typeface="Franklin Gothic Book"/>
              </a:rPr>
              <a:t>. Retrieved December 3, 2015, from http://amhistory.si.edu/: http://amhistory.si.edu/onthemove/themes/story_50_1.html</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Ausubel, J. H., &amp; Marchetti, C. (2001). </a:t>
            </a:r>
            <a:r>
              <a:rPr b="0" i="1" lang="en-US" sz="1500" spc="-1" strike="noStrike">
                <a:solidFill>
                  <a:srgbClr val="000000"/>
                </a:solidFill>
                <a:latin typeface="Franklin Gothic Book"/>
              </a:rPr>
              <a:t>The Evolution of Transport</a:t>
            </a:r>
            <a:r>
              <a:rPr b="0" lang="en-US" sz="1500" spc="-1" strike="noStrike">
                <a:solidFill>
                  <a:srgbClr val="000000"/>
                </a:solidFill>
                <a:latin typeface="Franklin Gothic Book"/>
              </a:rPr>
              <a:t>. Retrieved December 3, 2015, from American Institute of Physics: http://phe.rockefeller.edu/TIP_transport/transport.pdf</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inesscasestudies.co.uk. (2014). </a:t>
            </a:r>
            <a:r>
              <a:rPr b="0" i="1" lang="en-US" sz="1500" spc="-1" strike="noStrike">
                <a:solidFill>
                  <a:srgbClr val="000000"/>
                </a:solidFill>
                <a:latin typeface="Franklin Gothic Book"/>
              </a:rPr>
              <a:t>Managing external influences A First Group case study</a:t>
            </a:r>
            <a:r>
              <a:rPr b="0" lang="en-US" sz="1500" spc="-1" strike="noStrike">
                <a:solidFill>
                  <a:srgbClr val="000000"/>
                </a:solidFill>
                <a:latin typeface="Franklin Gothic Book"/>
              </a:rPr>
              <a:t>. Retrieved December 3, 2015, from http://businesscasestudies.co.uk/: http://businesscasestudies.co.uk/first-group/managing-external-influences/political-and-economic-factors.html#axzz3tL686i6s</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history.com. (2015). </a:t>
            </a:r>
            <a:r>
              <a:rPr b="0" i="1" lang="en-US" sz="1500" spc="-1" strike="noStrike">
                <a:solidFill>
                  <a:srgbClr val="000000"/>
                </a:solidFill>
                <a:latin typeface="Franklin Gothic Book"/>
              </a:rPr>
              <a:t>AUTOMOBILES</a:t>
            </a:r>
            <a:r>
              <a:rPr b="0" lang="en-US" sz="1500" spc="-1" strike="noStrike">
                <a:solidFill>
                  <a:srgbClr val="000000"/>
                </a:solidFill>
                <a:latin typeface="Franklin Gothic Book"/>
              </a:rPr>
              <a:t>. Retrieved December 3, 2015, from history.com: http://www.history.com/topics/automobiles</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kingcounty.gov. (2014). </a:t>
            </a:r>
            <a:r>
              <a:rPr b="0" i="1" lang="en-US" sz="1500" spc="-1" strike="noStrike">
                <a:solidFill>
                  <a:srgbClr val="000000"/>
                </a:solidFill>
                <a:latin typeface="Franklin Gothic Book"/>
              </a:rPr>
              <a:t>Milestones 2000s</a:t>
            </a:r>
            <a:r>
              <a:rPr b="0" lang="en-US" sz="1500" spc="-1" strike="noStrike">
                <a:solidFill>
                  <a:srgbClr val="000000"/>
                </a:solidFill>
                <a:latin typeface="Franklin Gothic Book"/>
              </a:rPr>
              <a:t>. Retrieved December 3, 2015, from kingcounty.gov: http://metro.kingcounty.gov/am/history/history-2000.html</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Rodrigue, J.-P., &amp; Notteboom, T. (2014). </a:t>
            </a:r>
            <a:r>
              <a:rPr b="0" i="1" lang="en-US" sz="1500" spc="-1" strike="noStrike">
                <a:solidFill>
                  <a:srgbClr val="000000"/>
                </a:solidFill>
                <a:latin typeface="Franklin Gothic Book"/>
              </a:rPr>
              <a:t>Transportation and Economic Development</a:t>
            </a:r>
            <a:r>
              <a:rPr b="0" lang="en-US" sz="1500" spc="-1" strike="noStrike">
                <a:solidFill>
                  <a:srgbClr val="000000"/>
                </a:solidFill>
                <a:latin typeface="Franklin Gothic Book"/>
              </a:rPr>
              <a:t>. Retrieved December 3, 2015, from hofstra.edu: https://people.hofstra.edu/GEOTRANS/eng/ch7en/conc7en/ch7c1en.html</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990720"/>
            <a:ext cx="420696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ransportation continued to evolve in 1980s.</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ars were considered a significant part of people</a:t>
            </a:r>
            <a:r>
              <a:rPr b="0" lang="ja-JP" sz="1600" spc="-1" strike="noStrike">
                <a:solidFill>
                  <a:srgbClr val="000000"/>
                </a:solidFill>
                <a:latin typeface="Calibri"/>
                <a:ea typeface="Calibri"/>
              </a:rPr>
              <a:t>’</a:t>
            </a:r>
            <a:r>
              <a:rPr b="0" lang="en-US" sz="1600" spc="-1" strike="noStrike">
                <a:solidFill>
                  <a:srgbClr val="000000"/>
                </a:solidFill>
                <a:latin typeface="Calibri"/>
                <a:ea typeface="Calibri"/>
              </a:rPr>
              <a:t>s lives. </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energy efficient and environment friendly cars were introduced making transportation more economically feasible. </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atbelts were made compulsory.</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road rules and their enforcement laws were established.</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s car owners continued to increase roads become congested and pollution increased.</a:t>
            </a:r>
            <a:endParaRPr b="1" lang="en-US" sz="16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26" name="Picture 3" descr=""/>
          <p:cNvPicPr/>
          <p:nvPr/>
        </p:nvPicPr>
        <p:blipFill>
          <a:blip r:embed="rId1"/>
          <a:stretch/>
        </p:blipFill>
        <p:spPr>
          <a:xfrm>
            <a:off x="5029200" y="1143000"/>
            <a:ext cx="2671920" cy="1219320"/>
          </a:xfrm>
          <a:prstGeom prst="rect">
            <a:avLst/>
          </a:prstGeom>
          <a:ln w="0">
            <a:noFill/>
          </a:ln>
        </p:spPr>
      </p:pic>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198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pic>
        <p:nvPicPr>
          <p:cNvPr id="228" name="Picture 2" descr=""/>
          <p:cNvPicPr/>
          <p:nvPr/>
        </p:nvPicPr>
        <p:blipFill>
          <a:blip r:embed="rId2"/>
          <a:stretch/>
        </p:blipFill>
        <p:spPr>
          <a:xfrm>
            <a:off x="4648320" y="4267080"/>
            <a:ext cx="2307960" cy="1420920"/>
          </a:xfrm>
          <a:prstGeom prst="rect">
            <a:avLst/>
          </a:prstGeom>
          <a:ln w="0">
            <a:noFill/>
          </a:ln>
        </p:spPr>
      </p:pic>
      <p:pic>
        <p:nvPicPr>
          <p:cNvPr id="229" name="Picture 2" descr="http://www.victorymusclecars.com/images/web_images_14/Stephen-Cox-68Mustang390-Mecum-Auctions-09102012.jpg"/>
          <p:cNvPicPr/>
          <p:nvPr/>
        </p:nvPicPr>
        <p:blipFill>
          <a:blip r:embed="rId3"/>
          <a:stretch/>
        </p:blipFill>
        <p:spPr>
          <a:xfrm>
            <a:off x="6183360" y="2590920"/>
            <a:ext cx="2681280" cy="146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INTRODUCTION</a:t>
            </a:r>
            <a:endParaRPr b="0" lang="en-US" sz="2800" spc="-1" strike="noStrike">
              <a:solidFill>
                <a:srgbClr val="000000"/>
              </a:solidFill>
              <a:latin typeface="Franklin Gothic Medium"/>
            </a:endParaRPr>
          </a:p>
        </p:txBody>
      </p:sp>
      <p:sp>
        <p:nvSpPr>
          <p:cNvPr id="23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history of transport is primarily related with technological innovation.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advances in technology have assisted people in to move from place to plac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reover the transportation advancements have allowed to travel farther and this influence has spread over the year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ith passage of time new inventions and discoveries were applied to transportation.</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all helped in decreasing travel time, reducing costs and increasing transport efficiency.</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transportation itself is divided into: land transport, water transport, rail transport, aviation and spaceflight.</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91440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ir travel evolved significantly as well making long distance travelling easier for people.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increased business and ministry travels, hence bringing economic and social advantages.</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the 1990s, air travel too  step forward with the introduction of Boeing 747-400 jumbo jet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33" name="Picture 3" descr=""/>
          <p:cNvPicPr/>
          <p:nvPr/>
        </p:nvPicPr>
        <p:blipFill>
          <a:blip r:embed="rId1"/>
          <a:stretch/>
        </p:blipFill>
        <p:spPr>
          <a:xfrm>
            <a:off x="4800600" y="457200"/>
            <a:ext cx="2176560" cy="1447920"/>
          </a:xfrm>
          <a:prstGeom prst="rect">
            <a:avLst/>
          </a:prstGeom>
          <a:ln w="0">
            <a:noFill/>
          </a:ln>
        </p:spPr>
      </p:pic>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1980</a:t>
            </a:r>
            <a:r>
              <a:rPr b="0" lang="ja-JP" sz="2400" spc="-1" strike="noStrike">
                <a:solidFill>
                  <a:srgbClr val="000000"/>
                </a:solidFill>
                <a:latin typeface="Franklin Gothic Medium"/>
              </a:rPr>
              <a:t>’</a:t>
            </a:r>
            <a:r>
              <a:rPr b="0" lang="en-US" sz="2400" spc="-1" strike="noStrike">
                <a:solidFill>
                  <a:srgbClr val="000000"/>
                </a:solidFill>
                <a:latin typeface="Franklin Gothic Medium"/>
              </a:rPr>
              <a:t>S CONTINUE…</a:t>
            </a:r>
            <a:endParaRPr b="0" lang="en-US" sz="2400" spc="-1" strike="noStrike">
              <a:solidFill>
                <a:srgbClr val="000000"/>
              </a:solidFill>
              <a:latin typeface="Franklin Gothic Medium"/>
            </a:endParaRPr>
          </a:p>
        </p:txBody>
      </p:sp>
      <p:pic>
        <p:nvPicPr>
          <p:cNvPr id="235" name="Picture 2" descr=""/>
          <p:cNvPicPr/>
          <p:nvPr/>
        </p:nvPicPr>
        <p:blipFill>
          <a:blip r:embed="rId2"/>
          <a:stretch/>
        </p:blipFill>
        <p:spPr>
          <a:xfrm>
            <a:off x="3809880" y="3429000"/>
            <a:ext cx="2446560" cy="1371600"/>
          </a:xfrm>
          <a:prstGeom prst="rect">
            <a:avLst/>
          </a:prstGeom>
          <a:ln w="0">
            <a:noFill/>
          </a:ln>
        </p:spPr>
      </p:pic>
      <p:sp>
        <p:nvSpPr>
          <p:cNvPr id="23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7" name="Picture 3" descr=""/>
          <p:cNvPicPr/>
          <p:nvPr/>
        </p:nvPicPr>
        <p:blipFill>
          <a:blip r:embed="rId3"/>
          <a:stretch/>
        </p:blipFill>
        <p:spPr>
          <a:xfrm>
            <a:off x="6324480" y="21337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etro buses started become another important mode of transportation.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wever increasing car loans were being provided which resulted in growth of private automobiles.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ime saving was the most significant advantage.</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39" name="Content Placeholder 3" descr=""/>
          <p:cNvPicPr/>
          <p:nvPr/>
        </p:nvPicPr>
        <p:blipFill>
          <a:blip r:embed="rId1"/>
          <a:stretch/>
        </p:blipFill>
        <p:spPr>
          <a:xfrm>
            <a:off x="4700520" y="1889280"/>
            <a:ext cx="3200400" cy="2128680"/>
          </a:xfrm>
          <a:prstGeom prst="rect">
            <a:avLst/>
          </a:prstGeom>
          <a:ln w="0">
            <a:noFill/>
          </a:ln>
        </p:spPr>
      </p:pic>
      <p:sp>
        <p:nvSpPr>
          <p:cNvPr id="24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199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sp>
        <p:nvSpPr>
          <p:cNvPr id="2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3" descr=""/>
          <p:cNvPicPr/>
          <p:nvPr/>
        </p:nvPicPr>
        <p:blipFill>
          <a:blip r:embed="rId2"/>
          <a:stretch/>
        </p:blipFill>
        <p:spPr>
          <a:xfrm>
            <a:off x="5638680" y="1066680"/>
            <a:ext cx="277200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arious efforts were made to power cars through different ways as an alternative.</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sea 19th century transportation was revolutionized by the steam ship.</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y the mid 19th century life boats were normally used on ships.</a:t>
            </a:r>
            <a:endParaRPr b="1" lang="en-US" sz="1600" spc="-1" strike="noStrike">
              <a:solidFill>
                <a:srgbClr val="000000"/>
              </a:solidFill>
              <a:latin typeface="Franklin Gothic Book"/>
            </a:endParaRPr>
          </a:p>
        </p:txBody>
      </p:sp>
      <p:pic>
        <p:nvPicPr>
          <p:cNvPr id="244" name="Picture 2" descr=""/>
          <p:cNvPicPr/>
          <p:nvPr/>
        </p:nvPicPr>
        <p:blipFill>
          <a:blip r:embed="rId1"/>
          <a:stretch/>
        </p:blipFill>
        <p:spPr>
          <a:xfrm>
            <a:off x="5410080" y="762120"/>
            <a:ext cx="3170520" cy="1868400"/>
          </a:xfrm>
          <a:prstGeom prst="rect">
            <a:avLst/>
          </a:prstGeom>
          <a:ln w="0">
            <a:noFill/>
          </a:ln>
        </p:spPr>
      </p:pic>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199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 CONTINUED…</a:t>
            </a:r>
            <a:endParaRPr b="0" lang="en-US" sz="2800" spc="-1" strike="noStrike">
              <a:solidFill>
                <a:srgbClr val="000000"/>
              </a:solidFill>
              <a:latin typeface="Franklin Gothic Medium"/>
            </a:endParaRPr>
          </a:p>
        </p:txBody>
      </p:sp>
      <p:pic>
        <p:nvPicPr>
          <p:cNvPr id="246" name="Picture 3" descr=""/>
          <p:cNvPicPr/>
          <p:nvPr/>
        </p:nvPicPr>
        <p:blipFill>
          <a:blip r:embed="rId2"/>
          <a:stretch/>
        </p:blipFill>
        <p:spPr>
          <a:xfrm>
            <a:off x="4343400" y="2895480"/>
            <a:ext cx="266688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22240" y="1096920"/>
            <a:ext cx="3200400" cy="37130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n the year 2000,there were 220 million cars that makes more than one car for every person over the age of 18.</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ir travel continued to increase rapidly.</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tro set a new record in the history when more than 75000 people were carried at a weekend to Seahawks football at Husky Stadium.</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8" name="Content Placeholder 3" descr=""/>
          <p:cNvPicPr/>
          <p:nvPr/>
        </p:nvPicPr>
        <p:blipFill>
          <a:blip r:embed="rId1"/>
          <a:stretch/>
        </p:blipFill>
        <p:spPr>
          <a:xfrm>
            <a:off x="4700520" y="2249640"/>
            <a:ext cx="3200400" cy="1407960"/>
          </a:xfrm>
          <a:prstGeom prst="rect">
            <a:avLst/>
          </a:prstGeom>
          <a:ln w="0">
            <a:noFill/>
          </a:ln>
        </p:spPr>
      </p:pic>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200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pic>
        <p:nvPicPr>
          <p:cNvPr id="250" name="Content Placeholder 3" descr=""/>
          <p:cNvPicPr/>
          <p:nvPr/>
        </p:nvPicPr>
        <p:blipFill>
          <a:blip r:embed="rId2"/>
          <a:stretch/>
        </p:blipFill>
        <p:spPr>
          <a:xfrm>
            <a:off x="4648320" y="3124080"/>
            <a:ext cx="3124080" cy="16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 the mid-20th century there was a large network of branch railways in Britain.</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oods continued to be transported through rail, trucks and ships.</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oods produced in any part of the world was transported at a very low cost all around the world hence lowering costs and increasing revenues for business, making economy in general very stable</a:t>
            </a:r>
            <a:endParaRPr b="1" lang="en-US" sz="16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0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 CONTINUED…</a:t>
            </a:r>
            <a:endParaRPr b="0" lang="en-US" sz="2800" spc="-1" strike="noStrike">
              <a:solidFill>
                <a:srgbClr val="000000"/>
              </a:solidFill>
              <a:latin typeface="Franklin Gothic Medium"/>
            </a:endParaRPr>
          </a:p>
        </p:txBody>
      </p:sp>
      <p:pic>
        <p:nvPicPr>
          <p:cNvPr id="253" name="Picture 2" descr=""/>
          <p:cNvPicPr/>
          <p:nvPr/>
        </p:nvPicPr>
        <p:blipFill>
          <a:blip r:embed="rId1"/>
          <a:stretch/>
        </p:blipFill>
        <p:spPr>
          <a:xfrm>
            <a:off x="4648320" y="762120"/>
            <a:ext cx="396216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21880" y="1096920"/>
            <a:ext cx="3521160" cy="37130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lectric Cars were introduced.</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apid evolution in transportation resulted in many new inventions. Electric aviation took flight, Commercial space flight lifted off.</a:t>
            </a:r>
            <a:endParaRPr b="1" lang="en-US" sz="1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55" name="Content Placeholder 3" descr="Nissan Leaf"/>
          <p:cNvPicPr/>
          <p:nvPr/>
        </p:nvPicPr>
        <p:blipFill>
          <a:blip r:embed="rId1"/>
          <a:stretch/>
        </p:blipFill>
        <p:spPr>
          <a:xfrm>
            <a:off x="5257800" y="609480"/>
            <a:ext cx="3300480" cy="2024280"/>
          </a:xfrm>
          <a:prstGeom prst="rect">
            <a:avLst/>
          </a:prstGeom>
          <a:ln w="0">
            <a:noFill/>
          </a:ln>
        </p:spPr>
      </p:pic>
      <p:sp>
        <p:nvSpPr>
          <p:cNvPr id="2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10 onwards</a:t>
            </a:r>
            <a:endParaRPr b="0" lang="en-US" sz="2800" spc="-1" strike="noStrike">
              <a:solidFill>
                <a:srgbClr val="000000"/>
              </a:solidFill>
              <a:latin typeface="Franklin Gothic Medium"/>
            </a:endParaRPr>
          </a:p>
        </p:txBody>
      </p:sp>
      <p:pic>
        <p:nvPicPr>
          <p:cNvPr id="257" name="Picture 6" descr="High-Speed Rail in China"/>
          <p:cNvPicPr/>
          <p:nvPr/>
        </p:nvPicPr>
        <p:blipFill>
          <a:blip r:embed="rId2"/>
          <a:stretch/>
        </p:blipFill>
        <p:spPr>
          <a:xfrm>
            <a:off x="3124080" y="2971800"/>
            <a:ext cx="2971800" cy="1828800"/>
          </a:xfrm>
          <a:prstGeom prst="rect">
            <a:avLst/>
          </a:prstGeom>
          <a:ln w="0">
            <a:noFill/>
          </a:ln>
        </p:spPr>
      </p:pic>
      <p:pic>
        <p:nvPicPr>
          <p:cNvPr id="258" name="Picture 3" descr=""/>
          <p:cNvPicPr/>
          <p:nvPr/>
        </p:nvPicPr>
        <p:blipFill>
          <a:blip r:embed="rId3"/>
          <a:stretch/>
        </p:blipFill>
        <p:spPr>
          <a:xfrm>
            <a:off x="6559560" y="3200400"/>
            <a:ext cx="23004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4T06:40:45Z</dcterms:created>
  <dc:creator>User</dc:creator>
  <dc:description/>
  <dc:language>en-US</dc:language>
  <cp:lastModifiedBy>Chad Wadsworth</cp:lastModifiedBy>
  <dcterms:modified xsi:type="dcterms:W3CDTF">2015-12-05T06:02:32Z</dcterms:modified>
  <cp:revision>11</cp:revision>
  <dc:subject/>
  <dc:title>PowerPoint Presentation</dc:title>
</cp:coreProperties>
</file>